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4F6-827D-46DC-AE6A-64C417C2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39D3-4487-49CE-94B5-D50E613E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49F-B4DB-48A1-A437-8AF412B8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626-637F-4FDE-9881-74229D37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D1A8-C83A-4643-BDA1-110FA3F5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0A69-9D8B-427D-9071-D9DDE2CA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214F-BEE1-4EEC-8EDC-A5629B70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9037-6B42-43EB-866A-8413449B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AD64-5812-47CD-B12A-3FA35579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CEA7-503E-4230-A53C-970ECBE7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3E1A-ECC4-4BC0-B66E-1F019517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350F-AC7F-4CA1-9151-B038AFEE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3305-B2AF-4C09-AA43-6685C603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AF98-5691-443B-BDD6-677D8726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24C9-44D1-4EAA-97DB-886B7C8E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933A-F7CC-4497-97C1-C15738D0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45E2-D7CA-4160-BC13-9F524891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967-23B8-40D0-A508-2BA75E14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8992-32E8-4B00-958D-36DAA1D9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F48-8DDF-4E39-ACE4-D8DD2F9F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DC2-BE05-491C-B676-09E6C74A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018-81B3-42BF-AE43-35CF433B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28E-2648-44D9-A9D7-F42CDD0E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5781-276D-4F85-994E-5873B9FE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426F-1D85-4F32-AB4E-2FFB756BC2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8720-99DB-4E81-9835-5E492A4D97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68421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СПОРТА, ТУРИЗМА И МОЛОДЕЖНОЙ ПОЛИТИКИ РОССИЙСКОЙ ФЕДЕРАЦИИ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ККО ОГО ВФСО "ДИНАМО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ДЕПАРТАМЕНТ ПО ФИЗИЧЕСКОЙ КУЛЬТУРЕ И СПОРТУ КРАСНОДАРСКОГО КРАЯ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сероссийские соревнования по метаниям памяти "Заслуженного работника физической культуры Российской федерации"  А. Лун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7-18.02.2012 г.                                                                                         г. Адлер        с/к «Ю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»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сероссийские соревнования по метаниям памяти "Заслуженного работника физической культуры Российской федерации"  А. Лунева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719360"/>
          <a:ext cx="7615080" cy="4138560"/>
        </p:xfrm>
        <a:graphic>
          <a:graphicData uri="http://schemas.openxmlformats.org/drawingml/2006/table">
            <a:tbl>
              <a:tblPr/>
              <a:tblGrid>
                <a:gridCol w="3565440"/>
                <a:gridCol w="1710000"/>
                <a:gridCol w="658800"/>
                <a:gridCol w="168084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. 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Н. Рабоч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Б. Мор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д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Крохмал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роп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мо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А. Рябин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ян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коп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А. Жу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ла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Н. Коптю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 Нов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2-02-18T11:57:03Z</cp:lastPrinted>
  <dcterms:modified xsi:type="dcterms:W3CDTF">2012-02-18T12:17:44Z</dcterms:modified>
  <cp:revision>43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